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D0D-5667-43C5-8EA3-51492579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E28-2B96-41A3-AF6D-64747817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FC9-0B6C-4D0C-8BF8-B5B9CC3B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04C-D33B-4BB8-A54D-FFB0BBF3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0FD0-7D69-4922-B224-92ABDC5B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B923-2844-4463-AEEC-122D6E36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8AE7-733F-4984-B34B-D9046CF3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43F6-12F5-436D-83D5-D0A9CDE4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73CD-2FC6-4613-97F4-A1B4D66F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84D8-9FE8-4C6F-9EB5-96D028C7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31A3-122A-4C7E-9047-A0CE284F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600-A7E7-44A5-AD0E-1AB33843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FC62-220E-4F91-8F43-EED2128E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15BC-E501-44AD-BCA1-04077DD0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5069-14A2-4026-9AA4-476A4A4F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E469-18E0-4063-B8AB-F4BD6C11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C6AD-3CE5-4F0F-B33A-05DD3A4F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A03-B9BC-490B-90E1-A2A11593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526-0DAF-4A4D-8DD1-0CC64444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C7A-DD80-456A-B096-18F49E91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8B1-B7C3-4373-9E6A-6003B426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74A-F2D7-47BA-A119-8608A66D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3C6-D7FB-462D-9282-EE978098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9F4-1251-4EF1-8472-EFCFB092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2BDF-38D7-45BE-BE94-9D3EDD4CA8A6}" type="slidenum">
              <a:rPr b="0" lang="zh-CN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D800-A249-4AA1-877F-2FDA972161C8}" type="slidenum">
              <a:rPr b="0" lang="zh-CN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2:48Z</dcterms:modified>
  <cp:revision>14</cp:revision>
  <dc:subject/>
  <dc:title>幻灯片 1</dc:title>
</cp:coreProperties>
</file>